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81.gif" ContentType="image/gif"/>
  <Override PartName="/ppt/media/projctor.wav" ContentType="audio/x-wav"/>
  <Override PartName="/ppt/media/image30.wmf" ContentType="image/x-wmf"/>
  <Override PartName="/ppt/media/image4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CHIMES.WAV" ContentType="audio/x-wav"/>
  <Override PartName="/ppt/media/image12.wmf" ContentType="image/x-wmf"/>
  <Override PartName="/ppt/media/hzipup01.wav" ContentType="audio/x-wav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57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boinng04.wav" ContentType="audio/x-wav"/>
  <Override PartName="/ppt/media/image59.wmf" ContentType="image/x-wmf"/>
  <Override PartName="/ppt/media/image22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highchime.wav" ContentType="audio/x-wav"/>
  <Override PartName="/ppt/media/image67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87.wmf" ContentType="image/x-wmf"/>
  <Override PartName="/ppt/media/image75.wmf" ContentType="image/x-wmf"/>
  <Override PartName="/ppt/media/image78.wmf" ContentType="image/x-wmf"/>
  <Override PartName="/ppt/media/slotwn08.wav" ContentType="audio/x-wav"/>
  <Override PartName="/ppt/media/image24.wmf" ContentType="image/x-wmf"/>
  <Override PartName="/ppt/media/image79.wmf" ContentType="image/x-wmf"/>
  <Override PartName="/ppt/media/WHOOSH.WAV" ContentType="audio/x-wav"/>
  <Override PartName="/ppt/media/image76.wmf" ContentType="image/x-wmf"/>
  <Override PartName="/ppt/media/image74.wmf" ContentType="image/x-wmf"/>
  <Override PartName="/ppt/media/image73.wmf" ContentType="image/x-wmf"/>
  <Override PartName="/ppt/media/lzipup01.wav" ContentType="audio/x-wav"/>
  <Override PartName="/ppt/media/bserie06.wav" ContentType="audio/x-wav"/>
  <Override PartName="/ppt/media/image72.wmf" ContentType="image/x-wmf"/>
  <Override PartName="/ppt/media/image7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23.wmf" ContentType="image/x-wmf"/>
  <Override PartName="/ppt/media/image20.wmf" ContentType="image/x-wmf"/>
  <Override PartName="/ppt/media/driveby.wav" ContentType="audio/x-wav"/>
  <Override PartName="/ppt/media/jetflyby2.wav" ContentType="audio/x-wav"/>
  <Override PartName="/ppt/media/image88.wmf" ContentType="image/x-wmf"/>
  <Override PartName="/ppt/media/LASER.WAV" ContentType="audio/x-wav"/>
  <Override PartName="/ppt/media/image2.wmf" ContentType="image/x-wmf"/>
  <Override PartName="/ppt/media/image14.wmf" ContentType="image/x-wmf"/>
  <Override PartName="/ppt/media/image31.wmf" ContentType="image/x-wmf"/>
  <Override PartName="/ppt/media/image71.gif" ContentType="image/gif"/>
  <Override PartName="/ppt/media/image25.wmf" ContentType="image/x-wmf"/>
  <Override PartName="/ppt/media/gunshot.wav" ContentType="audio/x-wav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BAB-D2B1-4BB4-90B7-360FD000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F70-AE94-4F86-B6F7-1DA8F8F5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01A-C126-404D-9AB8-2893308B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C7C-2FF2-4A26-B4EF-5D90BF34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0D5-71DA-40A1-9534-7DA56972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276-C671-44E4-B2C3-3B726F6F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4D0-413A-45C7-B732-AFFCD144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C59-1B08-4703-A10E-67AA311F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7C1-A683-47BE-A8A7-EA97F0D5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768-7E66-4D14-AAC2-4F48DD54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932-98BC-440C-B1B9-C33D5981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E76-60F6-44B6-99E6-924E9B8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1DAA-9A2B-40F8-BEC3-3F990A67B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driveby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lzipup01.wav"/><Relationship Id="rId13" Type="http://schemas.openxmlformats.org/officeDocument/2006/relationships/audio" Target="../media/gunshot.wav"/><Relationship Id="rId14" Type="http://schemas.openxmlformats.org/officeDocument/2006/relationships/audio" Target="../media/lzipup01.wav"/><Relationship Id="rId15" Type="http://schemas.openxmlformats.org/officeDocument/2006/relationships/audio" Target="../media/gunshot.wav"/><Relationship Id="rId16" Type="http://schemas.openxmlformats.org/officeDocument/2006/relationships/audio" Target="../media/lzipup01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highchime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gunshot.wav"/><Relationship Id="rId24" Type="http://schemas.openxmlformats.org/officeDocument/2006/relationships/audio" Target="../media/driveby.wav"/><Relationship Id="rId25" Type="http://schemas.openxmlformats.org/officeDocument/2006/relationships/audio" Target="../media/gunshot.wav"/><Relationship Id="rId26" Type="http://schemas.openxmlformats.org/officeDocument/2006/relationships/audio" Target="../media/hzipup01.wav"/><Relationship Id="rId27" Type="http://schemas.openxmlformats.org/officeDocument/2006/relationships/audio" Target="../media/hzipup01.wav"/><Relationship Id="rId28" Type="http://schemas.openxmlformats.org/officeDocument/2006/relationships/audio" Target="../media/hzipup01.wav"/><Relationship Id="rId29" Type="http://schemas.openxmlformats.org/officeDocument/2006/relationships/audio" Target="../media/gunshot.wav"/><Relationship Id="rId30" Type="http://schemas.openxmlformats.org/officeDocument/2006/relationships/audio" Target="../media/jetflyby2.wav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7.wmf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boinng04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boinng04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boinng04.wav"/><Relationship Id="rId24" Type="http://schemas.openxmlformats.org/officeDocument/2006/relationships/audio" Target="../media/projctor.wav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0.wmf"/><Relationship Id="rId8" Type="http://schemas.openxmlformats.org/officeDocument/2006/relationships/audio" Target="../media/projctor.wav"/><Relationship Id="rId9" Type="http://schemas.openxmlformats.org/officeDocument/2006/relationships/audio" Target="../media/boinng04.wav"/><Relationship Id="rId10" Type="http://schemas.openxmlformats.org/officeDocument/2006/relationships/audio" Target="../media/slotwn08.wav"/><Relationship Id="rId11" Type="http://schemas.openxmlformats.org/officeDocument/2006/relationships/audio" Target="../media/gunshot.wav"/><Relationship Id="rId12" Type="http://schemas.openxmlformats.org/officeDocument/2006/relationships/audio" Target="../media/driveby.wav"/><Relationship Id="rId13" Type="http://schemas.openxmlformats.org/officeDocument/2006/relationships/audio" Target="../media/gunshot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gunshot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7.wmf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boinng04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boinng04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boinng04.wav"/><Relationship Id="rId24" Type="http://schemas.openxmlformats.org/officeDocument/2006/relationships/audio" Target="../media/projctor.wav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8.wmf"/><Relationship Id="rId8" Type="http://schemas.openxmlformats.org/officeDocument/2006/relationships/audio" Target="../media/projctor.wav"/><Relationship Id="rId9" Type="http://schemas.openxmlformats.org/officeDocument/2006/relationships/audio" Target="../media/boinng04.wav"/><Relationship Id="rId10" Type="http://schemas.openxmlformats.org/officeDocument/2006/relationships/audio" Target="../media/slotwn08.wav"/><Relationship Id="rId11" Type="http://schemas.openxmlformats.org/officeDocument/2006/relationships/audio" Target="../media/gunshot.wav"/><Relationship Id="rId12" Type="http://schemas.openxmlformats.org/officeDocument/2006/relationships/audio" Target="../media/driveby.wav"/><Relationship Id="rId13" Type="http://schemas.openxmlformats.org/officeDocument/2006/relationships/audio" Target="../media/gunshot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gunshot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.wmf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2.wmf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audio" Target="../media/LASE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driveby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CHIMES.WAV"/><Relationship Id="rId26" Type="http://schemas.openxmlformats.org/officeDocument/2006/relationships/audio" Target="../media/gunshot.wav"/><Relationship Id="rId27" Type="http://schemas.openxmlformats.org/officeDocument/2006/relationships/audio" Target="../media/driveby.wav"/><Relationship Id="rId28" Type="http://schemas.openxmlformats.org/officeDocument/2006/relationships/audio" Target="../media/gunshot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hzipup01.wav"/><Relationship Id="rId32" Type="http://schemas.openxmlformats.org/officeDocument/2006/relationships/audio" Target="../media/gunshot.wav"/><Relationship Id="rId33" Type="http://schemas.openxmlformats.org/officeDocument/2006/relationships/audio" Target="../media/jetflyby2.wav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8.wmf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projctor.wav"/><Relationship Id="rId36" Type="http://schemas.openxmlformats.org/officeDocument/2006/relationships/audio" Target="../media/driveby.wav"/><Relationship Id="rId37" Type="http://schemas.openxmlformats.org/officeDocument/2006/relationships/audio" Target="../media/projctor.wav"/><Relationship Id="rId38" Type="http://schemas.openxmlformats.org/officeDocument/2006/relationships/audio" Target="../media/projctor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CHIMES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gunshot.wav"/><Relationship Id="rId46" Type="http://schemas.openxmlformats.org/officeDocument/2006/relationships/audio" Target="../media/hzipup01.wav"/><Relationship Id="rId47" Type="http://schemas.openxmlformats.org/officeDocument/2006/relationships/audio" Target="../media/gunshot.wav"/><Relationship Id="rId48" Type="http://schemas.openxmlformats.org/officeDocument/2006/relationships/audio" Target="../media/jetflyby2.wav"/><Relationship Id="rId4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driveby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CHIMES.WAV"/><Relationship Id="rId22" Type="http://schemas.openxmlformats.org/officeDocument/2006/relationships/audio" Target="../media/gunshot.wav"/><Relationship Id="rId23" Type="http://schemas.openxmlformats.org/officeDocument/2006/relationships/audio" Target="../media/driveby.wav"/><Relationship Id="rId24" Type="http://schemas.openxmlformats.org/officeDocument/2006/relationships/audio" Target="../media/gunshot.wav"/><Relationship Id="rId25" Type="http://schemas.openxmlformats.org/officeDocument/2006/relationships/audio" Target="../media/hzipup01.wav"/><Relationship Id="rId26" Type="http://schemas.openxmlformats.org/officeDocument/2006/relationships/audio" Target="../media/hzipup01.wav"/><Relationship Id="rId27" Type="http://schemas.openxmlformats.org/officeDocument/2006/relationships/audio" Target="../media/gunshot.wav"/><Relationship Id="rId28" Type="http://schemas.openxmlformats.org/officeDocument/2006/relationships/audio" Target="../media/jetflyby2.wav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8.wmf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projctor.wav"/><Relationship Id="rId34" Type="http://schemas.openxmlformats.org/officeDocument/2006/relationships/audio" Target="../media/projctor.wav"/><Relationship Id="rId35" Type="http://schemas.openxmlformats.org/officeDocument/2006/relationships/audio" Target="../media/projctor.wav"/><Relationship Id="rId36" Type="http://schemas.openxmlformats.org/officeDocument/2006/relationships/audio" Target="../media/driveby.wav"/><Relationship Id="rId37" Type="http://schemas.openxmlformats.org/officeDocument/2006/relationships/audio" Target="../media/projctor.wav"/><Relationship Id="rId38" Type="http://schemas.openxmlformats.org/officeDocument/2006/relationships/audio" Target="../media/projctor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CHIMES.WAV"/><Relationship Id="rId43" Type="http://schemas.openxmlformats.org/officeDocument/2006/relationships/audio" Target="../media/gunshot.wav"/><Relationship Id="rId44" Type="http://schemas.openxmlformats.org/officeDocument/2006/relationships/audio" Target="../media/driveby.wav"/><Relationship Id="rId45" Type="http://schemas.openxmlformats.org/officeDocument/2006/relationships/audio" Target="../media/gunshot.wav"/><Relationship Id="rId46" Type="http://schemas.openxmlformats.org/officeDocument/2006/relationships/audio" Target="../media/hzipup01.wav"/><Relationship Id="rId47" Type="http://schemas.openxmlformats.org/officeDocument/2006/relationships/audio" Target="../media/gunshot.wav"/><Relationship Id="rId48" Type="http://schemas.openxmlformats.org/officeDocument/2006/relationships/audio" Target="../media/jetflyby2.wav"/><Relationship Id="rId4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driveby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slotwn08.wav"/><Relationship Id="rId28" Type="http://schemas.openxmlformats.org/officeDocument/2006/relationships/audio" Target="../media/gunshot.wav"/><Relationship Id="rId29" Type="http://schemas.openxmlformats.org/officeDocument/2006/relationships/audio" Target="../media/driveby.wav"/><Relationship Id="rId30" Type="http://schemas.openxmlformats.org/officeDocument/2006/relationships/audio" Target="../media/gunshot.wav"/><Relationship Id="rId31" Type="http://schemas.openxmlformats.org/officeDocument/2006/relationships/audio" Target="../media/hzipup01.wav"/><Relationship Id="rId32" Type="http://schemas.openxmlformats.org/officeDocument/2006/relationships/audio" Target="../media/hzipup01.wav"/><Relationship Id="rId33" Type="http://schemas.openxmlformats.org/officeDocument/2006/relationships/audio" Target="../media/gunshot.wav"/><Relationship Id="rId34" Type="http://schemas.openxmlformats.org/officeDocument/2006/relationships/audio" Target="../media/jetflyby2.wav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4191120"/>
          <a:ext cx="273204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91120"/>
                    <a:ext cx="27320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1371600"/>
            <a:ext cx="8610480" cy="914400"/>
            <a:chOff x="228600" y="1371600"/>
            <a:chExt cx="8610480" cy="914400"/>
          </a:xfrm>
        </p:grpSpPr>
        <p:sp>
          <p:nvSpPr>
            <p:cNvPr id="44" name=""/>
            <p:cNvSpPr/>
            <p:nvPr/>
          </p:nvSpPr>
          <p:spPr>
            <a:xfrm>
              <a:off x="228600" y="1371600"/>
              <a:ext cx="861048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3828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Equations in Slope-Intercep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Find the slope and the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4800600"/>
          <a:ext cx="158724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800600"/>
                    <a:ext cx="15872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191120" y="3352680"/>
          <a:ext cx="3824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352680"/>
                    <a:ext cx="3824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8600" y="1371600"/>
            <a:ext cx="236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lope-Intercept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37160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 linear equation in the form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mx + b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m is the slope, and b is the y-intercep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3429000"/>
          <a:ext cx="240012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40012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95280" y="5334120"/>
          <a:ext cx="119088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334120"/>
                    <a:ext cx="119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248520" y="5181480"/>
          <a:ext cx="1733400" cy="56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5181480"/>
                    <a:ext cx="17334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495680" y="4038480"/>
          <a:ext cx="747720" cy="43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95680" y="403848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467480" y="4060800"/>
          <a:ext cx="747720" cy="43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406080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952880" y="457200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553080" y="4648320"/>
          <a:ext cx="441360" cy="56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53080" y="4648320"/>
                    <a:ext cx="44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945480" y="4572000"/>
          <a:ext cx="189360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45480" y="4572000"/>
                    <a:ext cx="18936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324480" y="3962520"/>
          <a:ext cx="70344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3962520"/>
                    <a:ext cx="703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136000" y="3962520"/>
          <a:ext cx="70308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136000" y="3962520"/>
                    <a:ext cx="703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400800" y="5715000"/>
          <a:ext cx="1300320" cy="615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400800" y="5715000"/>
                    <a:ext cx="1300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66680" y="2043000"/>
                <a:ext cx="4240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23880" y="2629080"/>
                <a:ext cx="8730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3600360" y="2577960"/>
                <a:ext cx="846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206800" y="3201840"/>
                <a:ext cx="6602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828880" y="3176640"/>
                <a:ext cx="19670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790720" y="2554200"/>
                <a:ext cx="7066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281480" y="2511360"/>
                <a:ext cx="698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22780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363760" y="3697200"/>
                <a:ext cx="341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3497400" y="3699000"/>
            <a:ext cx="533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354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583080" y="3697200"/>
                <a:ext cx="341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446720" y="3711600"/>
                <a:ext cx="341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58" name=""/>
          <p:cNvGraphicFramePr/>
          <p:nvPr/>
        </p:nvGraphicFramePr>
        <p:xfrm>
          <a:off x="2093760" y="4570560"/>
          <a:ext cx="43992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4570560"/>
                    <a:ext cx="4399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570040" y="4098960"/>
                <a:ext cx="150516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040280" y="4402080"/>
                <a:ext cx="850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5257800" y="2362320"/>
            <a:ext cx="3124080" cy="3124080"/>
            <a:chOff x="5257800" y="2362320"/>
            <a:chExt cx="3124080" cy="3124080"/>
          </a:xfrm>
        </p:grpSpPr>
        <p:sp>
          <p:nvSpPr>
            <p:cNvPr id="463" name=""/>
            <p:cNvSpPr/>
            <p:nvPr/>
          </p:nvSpPr>
          <p:spPr>
            <a:xfrm>
              <a:off x="5951520" y="236232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47040" y="2362320"/>
              <a:ext cx="345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40760" y="236232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34480" y="236232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57800" y="236232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57800" y="236232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57800" y="2709720"/>
              <a:ext cx="3124080" cy="34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57800" y="305604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57800" y="340344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7800" y="375120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57800" y="409716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444492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57800" y="4792680"/>
              <a:ext cx="312408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38640"/>
              <a:ext cx="3124080" cy="34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643800" y="2292480"/>
            <a:ext cx="0" cy="3238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48440" y="3056040"/>
            <a:ext cx="312408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12640" y="5489640"/>
                <a:ext cx="1627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6570720" y="4357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endCxn id="480" idx="2"/>
          </p:cNvCxnSpPr>
          <p:nvPr/>
        </p:nvCxnSpPr>
        <p:spPr>
          <a:xfrm flipV="1">
            <a:off x="2139480" y="4433040"/>
            <a:ext cx="4412160" cy="1351800"/>
          </a:xfrm>
          <a:prstGeom prst="curvedConnector5">
            <a:avLst>
              <a:gd name="adj1" fmla="val 50199"/>
              <a:gd name="adj2" fmla="val 50000"/>
              <a:gd name="adj3" fmla="val 50199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773440" y="5483160"/>
                <a:ext cx="177948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3" name=""/>
          <p:cNvGrpSpPr/>
          <p:nvPr/>
        </p:nvGrpSpPr>
        <p:grpSpPr>
          <a:xfrm>
            <a:off x="5276880" y="4425840"/>
            <a:ext cx="1600200" cy="659520"/>
            <a:chOff x="5276880" y="4425840"/>
            <a:chExt cx="1600200" cy="659520"/>
          </a:xfrm>
        </p:grpSpPr>
        <p:sp>
          <p:nvSpPr>
            <p:cNvPr id="484" name=""/>
            <p:cNvSpPr/>
            <p:nvPr/>
          </p:nvSpPr>
          <p:spPr>
            <a:xfrm>
              <a:off x="6648480" y="4425840"/>
              <a:ext cx="0" cy="396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76880" y="454968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591240" y="4794120"/>
            <a:ext cx="1214640" cy="474840"/>
            <a:chOff x="6591240" y="4794120"/>
            <a:chExt cx="1214640" cy="474840"/>
          </a:xfrm>
        </p:grpSpPr>
        <p:sp>
          <p:nvSpPr>
            <p:cNvPr id="487" name=""/>
            <p:cNvSpPr/>
            <p:nvPr/>
          </p:nvSpPr>
          <p:spPr>
            <a:xfrm>
              <a:off x="6648840" y="4794120"/>
              <a:ext cx="6940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91240" y="4794120"/>
              <a:ext cx="1214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ff"/>
                  </a:solidFill>
                  <a:latin typeface="Times New Roman"/>
                </a:rPr>
                <a:t>Right 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264440" y="471168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02360" y="3632040"/>
            <a:ext cx="3262320" cy="1776600"/>
          </a:xfrm>
          <a:custGeom>
            <a:avLst/>
            <a:gdLst/>
            <a:ahLst/>
            <a:rect l="l" t="t" r="r" b="b"/>
            <a:pathLst>
              <a:path w="1026" h="2095">
                <a:moveTo>
                  <a:pt x="0" y="0"/>
                </a:moveTo>
                <a:lnTo>
                  <a:pt x="1026" y="2095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810400" y="1986120"/>
            <a:ext cx="3333600" cy="28857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4. During the summer you work for a lawn care service. You are paid $4 per day, and an hourly wage of $1.7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562120" y="4029120"/>
          <a:ext cx="565200" cy="4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62120" y="4029120"/>
                    <a:ext cx="5652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0" y="2117880"/>
            <a:ext cx="64785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Using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</a:rPr>
              <a:t>w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to represent daily wages and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 to represent the number of hours worked daily, write an equation that models your total wages for one day’s work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127320" y="3913200"/>
          <a:ext cx="1741680" cy="60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7320" y="3913200"/>
                    <a:ext cx="17416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4869000" y="3935520"/>
          <a:ext cx="799920" cy="560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9000" y="3935520"/>
                    <a:ext cx="7999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20520" y="455292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Find the slope and y-intercept of the equation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297080" y="5086440"/>
          <a:ext cx="1976400" cy="56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7080" y="5086440"/>
                    <a:ext cx="19764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3933720" y="5038560"/>
          <a:ext cx="1317600" cy="60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3720" y="5038560"/>
                    <a:ext cx="1317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0" y="5646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What does the slope represent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581120" y="6110280"/>
          <a:ext cx="3811680" cy="74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81120" y="6110280"/>
                    <a:ext cx="3811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5810400" y="1986120"/>
            <a:ext cx="3333600" cy="28857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4. During the summer you work for a lawn care service. You are paid $4 per day, and an hourly wage of #1.7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2568600"/>
            <a:ext cx="525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Graph the equation using the slope and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120680" y="2058840"/>
          <a:ext cx="306072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0680" y="2058840"/>
                    <a:ext cx="3060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239760" y="4362480"/>
          <a:ext cx="1940040" cy="13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9760" y="4362480"/>
                    <a:ext cx="194004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900000" y="3735360"/>
          <a:ext cx="123516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3735360"/>
                    <a:ext cx="12351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1" name=""/>
          <p:cNvGrpSpPr/>
          <p:nvPr/>
        </p:nvGrpSpPr>
        <p:grpSpPr>
          <a:xfrm>
            <a:off x="2795760" y="3551400"/>
            <a:ext cx="3136320" cy="3124080"/>
            <a:chOff x="2795760" y="3551400"/>
            <a:chExt cx="3136320" cy="3124080"/>
          </a:xfrm>
        </p:grpSpPr>
        <p:sp>
          <p:nvSpPr>
            <p:cNvPr id="522" name=""/>
            <p:cNvSpPr/>
            <p:nvPr/>
          </p:nvSpPr>
          <p:spPr>
            <a:xfrm>
              <a:off x="3501720" y="35514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97240" y="3551400"/>
              <a:ext cx="3456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90960" y="35514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84680" y="35514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808000" y="3551400"/>
              <a:ext cx="34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08000" y="355140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08000" y="3898800"/>
              <a:ext cx="312408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08000" y="424476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808000" y="459252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08000" y="4940280"/>
              <a:ext cx="312408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08000" y="528624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08000" y="563400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08000" y="5981760"/>
              <a:ext cx="312408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08000" y="6327720"/>
              <a:ext cx="312408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01720" y="3551400"/>
              <a:ext cx="0" cy="312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95760" y="667548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427560" y="521028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endCxn id="538" idx="2"/>
          </p:cNvCxnSpPr>
          <p:nvPr/>
        </p:nvCxnSpPr>
        <p:spPr>
          <a:xfrm>
            <a:off x="2134800" y="4017600"/>
            <a:ext cx="1274040" cy="1269000"/>
          </a:xfrm>
          <a:prstGeom prst="curvedConnector5">
            <a:avLst>
              <a:gd name="adj1" fmla="val 50734"/>
              <a:gd name="adj2" fmla="val 50000"/>
              <a:gd name="adj3" fmla="val 50734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773520" y="462276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051000" y="4251240"/>
            <a:ext cx="1492560" cy="447840"/>
            <a:chOff x="3051000" y="4251240"/>
            <a:chExt cx="1492560" cy="447840"/>
          </a:xfrm>
        </p:grpSpPr>
        <p:sp>
          <p:nvSpPr>
            <p:cNvPr id="542" name=""/>
            <p:cNvSpPr/>
            <p:nvPr/>
          </p:nvSpPr>
          <p:spPr>
            <a:xfrm>
              <a:off x="3502080" y="4699080"/>
              <a:ext cx="347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51000" y="4251240"/>
              <a:ext cx="1492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502080" y="4597560"/>
            <a:ext cx="1523880" cy="722160"/>
            <a:chOff x="3502080" y="4597560"/>
            <a:chExt cx="1523880" cy="722160"/>
          </a:xfrm>
        </p:grpSpPr>
        <p:sp>
          <p:nvSpPr>
            <p:cNvPr id="545" name=""/>
            <p:cNvSpPr/>
            <p:nvPr/>
          </p:nvSpPr>
          <p:spPr>
            <a:xfrm flipV="1">
              <a:off x="3502080" y="4597560"/>
              <a:ext cx="0" cy="7221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2080" y="4777920"/>
              <a:ext cx="15238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Up 1.7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V="1">
            <a:off x="2795760" y="3454200"/>
            <a:ext cx="1747800" cy="3114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500"/>
                            </p:stCondLst>
                            <p:childTnLst>
                              <p:par>
                                <p:cTn id="7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6438960" y="1978200"/>
            <a:ext cx="2705040" cy="33336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5. During the summer you work for a lawn care service. You are paid $6 per day, and an hourly wage of $1.2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2889360" y="4086360"/>
          <a:ext cx="565200" cy="46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89360" y="4086360"/>
                    <a:ext cx="5652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0" y="2117880"/>
            <a:ext cx="645804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Using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</a:rPr>
              <a:t>w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to represent daily wages and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 to represent the number of hours worked daily, write an equation that models your total wages for one day’s work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3454560" y="3970440"/>
          <a:ext cx="1741320" cy="60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54560" y="3970440"/>
                    <a:ext cx="17413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219640" y="3992400"/>
          <a:ext cx="752400" cy="56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19640" y="3992400"/>
                    <a:ext cx="7524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0" y="4552920"/>
            <a:ext cx="66038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Find the slope and y-intercept of the equation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2422440" y="5057640"/>
          <a:ext cx="1976400" cy="560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22440" y="5057640"/>
                    <a:ext cx="19764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734000" y="5010120"/>
          <a:ext cx="1270080" cy="60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34000" y="5010120"/>
                    <a:ext cx="12700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-20520" y="564660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What does the slope represent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1560600" y="6110280"/>
          <a:ext cx="3811680" cy="74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60600" y="6110280"/>
                    <a:ext cx="3811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6438960" y="1978200"/>
            <a:ext cx="2705040" cy="33336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sing Slope-Intercept Form to Solve a Real-Lif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5. During the summer you work for a lawn care service. You are paid $6 per day, and an hourly wage of $1.2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2568600"/>
            <a:ext cx="525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buClr>
                <a:srgbClr val="0033cc"/>
              </a:buClr>
              <a:buFont typeface="Times New Roman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Graph the equation using the slope and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120680" y="2058840"/>
          <a:ext cx="306072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0680" y="2058840"/>
                    <a:ext cx="3060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203040" y="4246560"/>
          <a:ext cx="1940040" cy="13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3040" y="4246560"/>
                    <a:ext cx="194004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885960" y="3619440"/>
          <a:ext cx="1190520" cy="56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85960" y="3619440"/>
                    <a:ext cx="11905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3068640" y="3551400"/>
            <a:ext cx="3137040" cy="3124080"/>
            <a:chOff x="3068640" y="3551400"/>
            <a:chExt cx="3137040" cy="3124080"/>
          </a:xfrm>
        </p:grpSpPr>
        <p:sp>
          <p:nvSpPr>
            <p:cNvPr id="579" name=""/>
            <p:cNvSpPr/>
            <p:nvPr/>
          </p:nvSpPr>
          <p:spPr>
            <a:xfrm>
              <a:off x="3774960" y="35514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70480" y="3551400"/>
              <a:ext cx="345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64200" y="35514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57920" y="35514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81240" y="355140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81240" y="355140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81240" y="389880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81240" y="424476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81240" y="459252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81240" y="494028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81240" y="528624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81240" y="563400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81240" y="598176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1240" y="632772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774960" y="3551400"/>
              <a:ext cx="0" cy="312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68640" y="6675480"/>
              <a:ext cx="3124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700440" y="45133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"/>
          <p:cNvCxnSpPr>
            <a:endCxn id="595" idx="2"/>
          </p:cNvCxnSpPr>
          <p:nvPr/>
        </p:nvCxnSpPr>
        <p:spPr>
          <a:xfrm>
            <a:off x="2076480" y="3902040"/>
            <a:ext cx="1605600" cy="687960"/>
          </a:xfrm>
          <a:prstGeom prst="curvedConnector5">
            <a:avLst>
              <a:gd name="adj1" fmla="val 50527"/>
              <a:gd name="adj2" fmla="val 50000"/>
              <a:gd name="adj3" fmla="val 50527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597" name=""/>
          <p:cNvSpPr/>
          <p:nvPr/>
        </p:nvSpPr>
        <p:spPr>
          <a:xfrm>
            <a:off x="4046400" y="406224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324240" y="3678120"/>
            <a:ext cx="1492200" cy="447840"/>
            <a:chOff x="3324240" y="3678120"/>
            <a:chExt cx="1492200" cy="447840"/>
          </a:xfrm>
        </p:grpSpPr>
        <p:sp>
          <p:nvSpPr>
            <p:cNvPr id="599" name=""/>
            <p:cNvSpPr/>
            <p:nvPr/>
          </p:nvSpPr>
          <p:spPr>
            <a:xfrm>
              <a:off x="3774960" y="4125960"/>
              <a:ext cx="347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4240" y="3678120"/>
              <a:ext cx="1492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774960" y="4078080"/>
            <a:ext cx="1524240" cy="671760"/>
            <a:chOff x="3774960" y="4078080"/>
            <a:chExt cx="1524240" cy="671760"/>
          </a:xfrm>
        </p:grpSpPr>
        <p:sp>
          <p:nvSpPr>
            <p:cNvPr id="602" name=""/>
            <p:cNvSpPr/>
            <p:nvPr/>
          </p:nvSpPr>
          <p:spPr>
            <a:xfrm flipV="1">
              <a:off x="3774960" y="4078080"/>
              <a:ext cx="0" cy="5439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74960" y="4214160"/>
              <a:ext cx="15242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Up 1.2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3081240" y="3551400"/>
            <a:ext cx="1389240" cy="2131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28800" y="4648320"/>
          <a:ext cx="47160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648320"/>
                    <a:ext cx="4716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228600" y="1371600"/>
            <a:ext cx="8610480" cy="914400"/>
            <a:chOff x="228600" y="1371600"/>
            <a:chExt cx="8610480" cy="914400"/>
          </a:xfrm>
        </p:grpSpPr>
        <p:sp>
          <p:nvSpPr>
            <p:cNvPr id="79" name=""/>
            <p:cNvSpPr/>
            <p:nvPr/>
          </p:nvSpPr>
          <p:spPr>
            <a:xfrm>
              <a:off x="228600" y="1371600"/>
              <a:ext cx="861048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828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Equations in Slope-Intercep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Find the slope and the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5181480"/>
          <a:ext cx="158724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181480"/>
                    <a:ext cx="15872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105520" y="2819520"/>
          <a:ext cx="3200400" cy="14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819520"/>
                    <a:ext cx="32004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28600" y="1371600"/>
            <a:ext cx="236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lope-Intercept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137160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 linear equation in the form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mx + b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m is the slope, and b is the y-intercep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3429000"/>
          <a:ext cx="296568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429000"/>
                    <a:ext cx="29656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752480" y="5791320"/>
          <a:ext cx="119088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5791320"/>
                    <a:ext cx="119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181480" y="5389560"/>
          <a:ext cx="1927440" cy="146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81480" y="5389560"/>
                    <a:ext cx="192744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562720" y="4724280"/>
          <a:ext cx="441360" cy="56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62720" y="4724280"/>
                    <a:ext cx="44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019920" y="4267080"/>
          <a:ext cx="1630080" cy="13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9920" y="4267080"/>
                    <a:ext cx="16300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315200" y="5388120"/>
          <a:ext cx="1444680" cy="1469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15200" y="5388120"/>
                    <a:ext cx="144468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85800" y="3962520"/>
          <a:ext cx="96840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5800" y="3962520"/>
                    <a:ext cx="968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19520" y="3962520"/>
          <a:ext cx="96660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3962520"/>
                    <a:ext cx="9666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457200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0" y="4572000"/>
          <a:ext cx="2262240" cy="561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86000" y="4572000"/>
                    <a:ext cx="22622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620120" y="4267080"/>
          <a:ext cx="880920" cy="13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20120" y="4267080"/>
                    <a:ext cx="8809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219320" y="4267080"/>
          <a:ext cx="47124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267080"/>
                    <a:ext cx="4712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228600" y="1371600"/>
            <a:ext cx="8610480" cy="914400"/>
            <a:chOff x="228600" y="1371600"/>
            <a:chExt cx="8610480" cy="914400"/>
          </a:xfrm>
        </p:grpSpPr>
        <p:sp>
          <p:nvSpPr>
            <p:cNvPr id="114" name=""/>
            <p:cNvSpPr/>
            <p:nvPr/>
          </p:nvSpPr>
          <p:spPr>
            <a:xfrm>
              <a:off x="228600" y="1371600"/>
              <a:ext cx="861048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Equations in Slope-Intercep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3623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Find the slope and the y-intercep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27040" y="4876920"/>
          <a:ext cx="132264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7040" y="4876920"/>
                    <a:ext cx="13226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064040" y="3352680"/>
          <a:ext cx="397836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4040" y="3352680"/>
                    <a:ext cx="39783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28600" y="1371600"/>
            <a:ext cx="2362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lope-Intercept Fo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37160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 linear equation in the form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mx + b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m is the slope, and b is the y-intercep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3429000"/>
          <a:ext cx="183528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429000"/>
                    <a:ext cx="18352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25600" y="5562720"/>
          <a:ext cx="123516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25600" y="5562720"/>
                    <a:ext cx="12351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65360" y="4114800"/>
          <a:ext cx="197964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5360" y="4114800"/>
                    <a:ext cx="19796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114800" y="4648320"/>
          <a:ext cx="1644480" cy="1222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4648320"/>
                    <a:ext cx="16444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419720" y="3962520"/>
          <a:ext cx="747720" cy="43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19720" y="396252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467480" y="3962520"/>
          <a:ext cx="747720" cy="433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67480" y="396252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952880" y="441972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246720" y="4452840"/>
          <a:ext cx="750960" cy="65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46720" y="4452840"/>
                    <a:ext cx="7509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934320" y="4419720"/>
          <a:ext cx="193680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4419720"/>
                    <a:ext cx="1936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400800" y="3886200"/>
          <a:ext cx="74772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00800" y="38862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8077320" y="3886200"/>
          <a:ext cx="747720" cy="52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077320" y="38862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191120" y="5867280"/>
          <a:ext cx="1251000" cy="615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191120" y="5867280"/>
                    <a:ext cx="12510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324480" y="50292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400800" y="5029200"/>
          <a:ext cx="43956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400800" y="5029200"/>
                    <a:ext cx="439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543800" y="50292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0120" y="5029200"/>
          <a:ext cx="43956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620120" y="5029200"/>
                    <a:ext cx="439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458200" y="5029200"/>
          <a:ext cx="439560" cy="5205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458200" y="5029200"/>
                    <a:ext cx="439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019920" y="5943600"/>
          <a:ext cx="439560" cy="5634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5943600"/>
                    <a:ext cx="4395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477120" y="5510160"/>
          <a:ext cx="1676160" cy="13478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477120" y="5510160"/>
                    <a:ext cx="16761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8077320" y="5867280"/>
          <a:ext cx="757080" cy="596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077320" y="5867280"/>
                    <a:ext cx="7570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28600" y="1371600"/>
            <a:ext cx="8610480" cy="914400"/>
            <a:chOff x="228600" y="1371600"/>
            <a:chExt cx="8610480" cy="914400"/>
          </a:xfrm>
        </p:grpSpPr>
        <p:sp>
          <p:nvSpPr>
            <p:cNvPr id="164" name=""/>
            <p:cNvSpPr/>
            <p:nvPr/>
          </p:nvSpPr>
          <p:spPr>
            <a:xfrm>
              <a:off x="228600" y="1371600"/>
              <a:ext cx="861048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8280" y="137160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Equations in Slope-Intercep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36232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Which two lines in Exercises 1 – 6 are parallel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600200"/>
            <a:ext cx="2361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arallel Li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1600200"/>
            <a:ext cx="678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nonvertical lines that have the same slop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971800"/>
            <a:ext cx="7772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0033"/>
                </a:solidFill>
                <a:latin typeface="Times New Roman"/>
              </a:rPr>
              <a:t>Lines 1 and 3 both have a slope of –3, so they are parallel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2133720"/>
          <a:ext cx="301140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301140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447920" y="3352680"/>
          <a:ext cx="847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352680"/>
                    <a:ext cx="847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371600" y="5181480"/>
          <a:ext cx="1411200" cy="134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181480"/>
                    <a:ext cx="141120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600200" y="4572000"/>
          <a:ext cx="119052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572000"/>
                    <a:ext cx="119052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11200" y="2666880"/>
          <a:ext cx="101268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1200" y="2666880"/>
                    <a:ext cx="10126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644920" y="2666880"/>
          <a:ext cx="1011240" cy="52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44920" y="2666880"/>
                    <a:ext cx="1011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920" y="327672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0" y="3276720"/>
          <a:ext cx="150804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3276720"/>
                    <a:ext cx="15080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828800" y="3809880"/>
          <a:ext cx="1649520" cy="70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28800" y="3809880"/>
                    <a:ext cx="16495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5257800" y="2362320"/>
            <a:ext cx="3123720" cy="3123720"/>
            <a:chOff x="5257800" y="2362320"/>
            <a:chExt cx="3123720" cy="3123720"/>
          </a:xfrm>
        </p:grpSpPr>
        <p:sp>
          <p:nvSpPr>
            <p:cNvPr id="193" name=""/>
            <p:cNvSpPr/>
            <p:nvPr/>
          </p:nvSpPr>
          <p:spPr>
            <a:xfrm>
              <a:off x="59518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4596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404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344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8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23623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57800" y="27093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7800" y="30564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7800" y="340344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75084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57800" y="40975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57800" y="44449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47919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57800" y="51390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93000" y="2362320"/>
              <a:ext cx="0" cy="312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7800" y="409752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916680" y="40212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 flipV="1">
            <a:off x="2782800" y="4096800"/>
            <a:ext cx="4107600" cy="758160"/>
          </a:xfrm>
          <a:prstGeom prst="curvedConnector5">
            <a:avLst>
              <a:gd name="adj1" fmla="val 51362"/>
              <a:gd name="adj2" fmla="val 49976"/>
              <a:gd name="adj3" fmla="val 51362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grpSp>
        <p:nvGrpSpPr>
          <p:cNvPr id="211" name=""/>
          <p:cNvGrpSpPr/>
          <p:nvPr/>
        </p:nvGrpSpPr>
        <p:grpSpPr>
          <a:xfrm>
            <a:off x="6993000" y="2117880"/>
            <a:ext cx="1523880" cy="1962720"/>
            <a:chOff x="6993000" y="2117880"/>
            <a:chExt cx="1523880" cy="1962720"/>
          </a:xfrm>
        </p:grpSpPr>
        <p:sp>
          <p:nvSpPr>
            <p:cNvPr id="212" name=""/>
            <p:cNvSpPr/>
            <p:nvPr/>
          </p:nvSpPr>
          <p:spPr>
            <a:xfrm flipV="1">
              <a:off x="6993000" y="2117880"/>
              <a:ext cx="0" cy="1962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93000" y="2608560"/>
              <a:ext cx="152388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9900"/>
                  </a:solidFill>
                  <a:latin typeface="Times New Roman"/>
                </a:rPr>
                <a:t>Up 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541920" y="1644480"/>
            <a:ext cx="1492560" cy="447840"/>
            <a:chOff x="6541920" y="1644480"/>
            <a:chExt cx="1492560" cy="447840"/>
          </a:xfrm>
        </p:grpSpPr>
        <p:sp>
          <p:nvSpPr>
            <p:cNvPr id="215" name=""/>
            <p:cNvSpPr/>
            <p:nvPr/>
          </p:nvSpPr>
          <p:spPr>
            <a:xfrm>
              <a:off x="6993000" y="2092320"/>
              <a:ext cx="347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41920" y="1644480"/>
              <a:ext cx="1492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64440" y="19810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647040" y="1644480"/>
            <a:ext cx="769680" cy="4222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7760" y="2117880"/>
          <a:ext cx="371628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2117880"/>
                    <a:ext cx="371628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419720" y="5521320"/>
          <a:ext cx="167472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521320"/>
                    <a:ext cx="16747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030400" y="5867280"/>
          <a:ext cx="114624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30400" y="5867280"/>
                    <a:ext cx="1146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"/>
          <p:cNvGrpSpPr/>
          <p:nvPr/>
        </p:nvGrpSpPr>
        <p:grpSpPr>
          <a:xfrm>
            <a:off x="5257800" y="2362320"/>
            <a:ext cx="3123720" cy="3123720"/>
            <a:chOff x="5257800" y="2362320"/>
            <a:chExt cx="3123720" cy="3123720"/>
          </a:xfrm>
        </p:grpSpPr>
        <p:sp>
          <p:nvSpPr>
            <p:cNvPr id="229" name=""/>
            <p:cNvSpPr/>
            <p:nvPr/>
          </p:nvSpPr>
          <p:spPr>
            <a:xfrm>
              <a:off x="59518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4596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404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344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78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7800" y="23623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27093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30564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57800" y="340344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57800" y="375084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57800" y="40975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57800" y="44449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57800" y="47919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7800" y="51390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93000" y="2362320"/>
              <a:ext cx="0" cy="312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57800" y="409752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916680" y="367524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endCxn id="245" idx="2"/>
          </p:cNvCxnSpPr>
          <p:nvPr/>
        </p:nvCxnSpPr>
        <p:spPr>
          <a:xfrm flipV="1">
            <a:off x="3198960" y="3750480"/>
            <a:ext cx="3699360" cy="2399400"/>
          </a:xfrm>
          <a:prstGeom prst="curvedConnector5">
            <a:avLst>
              <a:gd name="adj1" fmla="val 50257"/>
              <a:gd name="adj2" fmla="val 50000"/>
              <a:gd name="adj3" fmla="val 50257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7958160" y="401328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3211560"/>
            <a:ext cx="3124080" cy="100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04920" y="2622600"/>
          <a:ext cx="74772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262260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373560" y="2666880"/>
          <a:ext cx="74772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73560" y="266688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230560" y="3211560"/>
          <a:ext cx="706320" cy="65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30560" y="3211560"/>
                    <a:ext cx="706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851200" y="3178080"/>
          <a:ext cx="189396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1200" y="3178080"/>
                    <a:ext cx="18939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230560" y="2568600"/>
          <a:ext cx="7030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0560" y="2568600"/>
                    <a:ext cx="703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4041720" y="2568600"/>
          <a:ext cx="70344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41720" y="2568600"/>
                    <a:ext cx="703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2780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376360" y="3699000"/>
          <a:ext cx="39528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7636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497400" y="3699000"/>
            <a:ext cx="533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354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054160" y="4653000"/>
          <a:ext cx="439920" cy="563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54160" y="4653000"/>
                    <a:ext cx="4399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2532240" y="4219560"/>
          <a:ext cx="163332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32240" y="4219560"/>
                    <a:ext cx="16333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4111560" y="4576680"/>
          <a:ext cx="757440" cy="596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11560" y="4576680"/>
                    <a:ext cx="757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595680" y="3699000"/>
          <a:ext cx="39528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9568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352760" y="3699000"/>
          <a:ext cx="39528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5276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7" name=""/>
          <p:cNvGrpSpPr/>
          <p:nvPr/>
        </p:nvGrpSpPr>
        <p:grpSpPr>
          <a:xfrm>
            <a:off x="5605560" y="3768840"/>
            <a:ext cx="1600200" cy="659520"/>
            <a:chOff x="5605560" y="3768840"/>
            <a:chExt cx="1600200" cy="659520"/>
          </a:xfrm>
        </p:grpSpPr>
        <p:sp>
          <p:nvSpPr>
            <p:cNvPr id="278" name=""/>
            <p:cNvSpPr/>
            <p:nvPr/>
          </p:nvSpPr>
          <p:spPr>
            <a:xfrm>
              <a:off x="6977160" y="3768840"/>
              <a:ext cx="0" cy="396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5560" y="389268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977160" y="4103640"/>
            <a:ext cx="1600200" cy="474840"/>
            <a:chOff x="6977160" y="4103640"/>
            <a:chExt cx="1600200" cy="474840"/>
          </a:xfrm>
        </p:grpSpPr>
        <p:sp>
          <p:nvSpPr>
            <p:cNvPr id="281" name=""/>
            <p:cNvSpPr/>
            <p:nvPr/>
          </p:nvSpPr>
          <p:spPr>
            <a:xfrm>
              <a:off x="7053120" y="4103640"/>
              <a:ext cx="91440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77160" y="4103640"/>
              <a:ext cx="1600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ff"/>
                  </a:solidFill>
                  <a:latin typeface="Times New Roman"/>
                </a:rPr>
                <a:t>Right 3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52360" y="2117880"/>
          <a:ext cx="324504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2117880"/>
                    <a:ext cx="324504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185920" y="4464000"/>
          <a:ext cx="167472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5920" y="4464000"/>
                    <a:ext cx="16747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185920" y="3879720"/>
          <a:ext cx="123516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5920" y="3879720"/>
                    <a:ext cx="12351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2" name=""/>
          <p:cNvGrpSpPr/>
          <p:nvPr/>
        </p:nvGrpSpPr>
        <p:grpSpPr>
          <a:xfrm>
            <a:off x="5257800" y="2362320"/>
            <a:ext cx="3123720" cy="3123720"/>
            <a:chOff x="5257800" y="2362320"/>
            <a:chExt cx="3123720" cy="3123720"/>
          </a:xfrm>
        </p:grpSpPr>
        <p:sp>
          <p:nvSpPr>
            <p:cNvPr id="293" name=""/>
            <p:cNvSpPr/>
            <p:nvPr/>
          </p:nvSpPr>
          <p:spPr>
            <a:xfrm>
              <a:off x="59518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4596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04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344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578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23623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57800" y="27093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57800" y="30564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7800" y="340344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57800" y="375084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57800" y="40975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57800" y="44449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7800" y="47919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57800" y="51390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93000" y="2362320"/>
              <a:ext cx="0" cy="312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7800" y="409752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916680" y="263376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endCxn id="309" idx="2"/>
          </p:cNvCxnSpPr>
          <p:nvPr/>
        </p:nvCxnSpPr>
        <p:spPr>
          <a:xfrm flipV="1">
            <a:off x="3420720" y="2709000"/>
            <a:ext cx="3477240" cy="1453320"/>
          </a:xfrm>
          <a:prstGeom prst="curvedConnector5">
            <a:avLst>
              <a:gd name="adj1" fmla="val 50269"/>
              <a:gd name="adj2" fmla="val 50000"/>
              <a:gd name="adj3" fmla="val 50269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7264440" y="436896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16680" y="2362320"/>
            <a:ext cx="623880" cy="3236760"/>
          </a:xfrm>
          <a:custGeom>
            <a:avLst/>
            <a:gdLst/>
            <a:ahLst/>
            <a:rect l="l" t="t" r="r" b="b"/>
            <a:pathLst>
              <a:path w="393" h="2039">
                <a:moveTo>
                  <a:pt x="0" y="0"/>
                </a:moveTo>
                <a:lnTo>
                  <a:pt x="393" y="2039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62120" y="2624040"/>
          <a:ext cx="96840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624040"/>
                    <a:ext cx="9684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2851200" y="2624040"/>
          <a:ext cx="96840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51200" y="2624040"/>
                    <a:ext cx="9684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146320" y="3254400"/>
          <a:ext cx="44136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6320" y="3254400"/>
                    <a:ext cx="44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87680" y="3178080"/>
          <a:ext cx="215748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87680" y="3178080"/>
                    <a:ext cx="21574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2" name=""/>
          <p:cNvGrpSpPr/>
          <p:nvPr/>
        </p:nvGrpSpPr>
        <p:grpSpPr>
          <a:xfrm>
            <a:off x="5605560" y="2817720"/>
            <a:ext cx="1600200" cy="1645920"/>
            <a:chOff x="5605560" y="2817720"/>
            <a:chExt cx="1600200" cy="1645920"/>
          </a:xfrm>
        </p:grpSpPr>
        <p:sp>
          <p:nvSpPr>
            <p:cNvPr id="323" name=""/>
            <p:cNvSpPr/>
            <p:nvPr/>
          </p:nvSpPr>
          <p:spPr>
            <a:xfrm>
              <a:off x="6977160" y="2817720"/>
              <a:ext cx="0" cy="1645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5560" y="333216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541920" y="3997440"/>
            <a:ext cx="1492560" cy="447480"/>
            <a:chOff x="6541920" y="3997440"/>
            <a:chExt cx="1492560" cy="447480"/>
          </a:xfrm>
        </p:grpSpPr>
        <p:sp>
          <p:nvSpPr>
            <p:cNvPr id="326" name=""/>
            <p:cNvSpPr/>
            <p:nvPr/>
          </p:nvSpPr>
          <p:spPr>
            <a:xfrm>
              <a:off x="6993000" y="4444920"/>
              <a:ext cx="347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41920" y="3997440"/>
              <a:ext cx="1492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-39600" y="2117880"/>
          <a:ext cx="395136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2117880"/>
                    <a:ext cx="395136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419720" y="5521320"/>
          <a:ext cx="167472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521320"/>
                    <a:ext cx="16747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986120" y="5867280"/>
          <a:ext cx="123480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6120" y="5867280"/>
                    <a:ext cx="1234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7" name=""/>
          <p:cNvGrpSpPr/>
          <p:nvPr/>
        </p:nvGrpSpPr>
        <p:grpSpPr>
          <a:xfrm>
            <a:off x="5257800" y="2362320"/>
            <a:ext cx="3123720" cy="3123720"/>
            <a:chOff x="5257800" y="2362320"/>
            <a:chExt cx="3123720" cy="3123720"/>
          </a:xfrm>
        </p:grpSpPr>
        <p:sp>
          <p:nvSpPr>
            <p:cNvPr id="338" name=""/>
            <p:cNvSpPr/>
            <p:nvPr/>
          </p:nvSpPr>
          <p:spPr>
            <a:xfrm>
              <a:off x="59518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4596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404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4480" y="2362320"/>
              <a:ext cx="34704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57800" y="2362320"/>
              <a:ext cx="34668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57800" y="23623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57800" y="27093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7800" y="30564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57800" y="340344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57800" y="375084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57800" y="40975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7800" y="444492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57800" y="4791960"/>
              <a:ext cx="31237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5139000"/>
              <a:ext cx="3123720" cy="34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93000" y="2362320"/>
              <a:ext cx="0" cy="3123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57800" y="4097520"/>
              <a:ext cx="3123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916680" y="332748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endCxn id="354" idx="2"/>
          </p:cNvCxnSpPr>
          <p:nvPr/>
        </p:nvCxnSpPr>
        <p:spPr>
          <a:xfrm flipV="1">
            <a:off x="3220560" y="3402720"/>
            <a:ext cx="3677400" cy="2747160"/>
          </a:xfrm>
          <a:prstGeom prst="curvedConnector5">
            <a:avLst>
              <a:gd name="adj1" fmla="val 50254"/>
              <a:gd name="adj2" fmla="val 50000"/>
              <a:gd name="adj3" fmla="val 50254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7958160" y="3684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57800" y="2882880"/>
            <a:ext cx="3124080" cy="100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80880" y="2622600"/>
          <a:ext cx="74772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262260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3373560" y="2666880"/>
          <a:ext cx="74772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73560" y="2666880"/>
                    <a:ext cx="747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230560" y="3211560"/>
          <a:ext cx="706320" cy="652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30560" y="3211560"/>
                    <a:ext cx="706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851200" y="3178080"/>
          <a:ext cx="189396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1200" y="3178080"/>
                    <a:ext cx="18939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230560" y="2568600"/>
          <a:ext cx="7030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30560" y="2568600"/>
                    <a:ext cx="7030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041720" y="2568600"/>
          <a:ext cx="70344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41720" y="2568600"/>
                    <a:ext cx="703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22780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376360" y="3699000"/>
          <a:ext cx="39528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7636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3497400" y="3699000"/>
            <a:ext cx="533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35480" y="3699000"/>
            <a:ext cx="5335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054160" y="4653000"/>
          <a:ext cx="439920" cy="563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54160" y="4653000"/>
                    <a:ext cx="4399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532240" y="4219560"/>
          <a:ext cx="1633320" cy="1347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32240" y="4219560"/>
                    <a:ext cx="16333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4060800" y="4576680"/>
          <a:ext cx="858960" cy="596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060800" y="4576680"/>
                    <a:ext cx="858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595680" y="3699000"/>
          <a:ext cx="39528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9568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352760" y="3699000"/>
          <a:ext cx="39528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52760" y="3699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6" name=""/>
          <p:cNvGrpSpPr/>
          <p:nvPr/>
        </p:nvGrpSpPr>
        <p:grpSpPr>
          <a:xfrm>
            <a:off x="5605560" y="3440160"/>
            <a:ext cx="1600200" cy="659520"/>
            <a:chOff x="5605560" y="3440160"/>
            <a:chExt cx="1600200" cy="659520"/>
          </a:xfrm>
        </p:grpSpPr>
        <p:sp>
          <p:nvSpPr>
            <p:cNvPr id="387" name=""/>
            <p:cNvSpPr/>
            <p:nvPr/>
          </p:nvSpPr>
          <p:spPr>
            <a:xfrm>
              <a:off x="6977160" y="3440160"/>
              <a:ext cx="0" cy="396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05560" y="356400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977160" y="3751200"/>
            <a:ext cx="1600200" cy="474840"/>
            <a:chOff x="6977160" y="3751200"/>
            <a:chExt cx="1600200" cy="474840"/>
          </a:xfrm>
        </p:grpSpPr>
        <p:sp>
          <p:nvSpPr>
            <p:cNvPr id="390" name=""/>
            <p:cNvSpPr/>
            <p:nvPr/>
          </p:nvSpPr>
          <p:spPr>
            <a:xfrm>
              <a:off x="7053120" y="3751200"/>
              <a:ext cx="91440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77160" y="3751200"/>
              <a:ext cx="1600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ff"/>
                  </a:solidFill>
                  <a:latin typeface="Times New Roman"/>
                </a:rPr>
                <a:t>Right 3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Using Slope an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rite the equation in slope-intercept form. Then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7000" y="2117880"/>
          <a:ext cx="4094280" cy="69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2117880"/>
                    <a:ext cx="409428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2425680" y="4662360"/>
          <a:ext cx="1717560" cy="13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5680" y="4662360"/>
                    <a:ext cx="171756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2362320" y="4097160"/>
          <a:ext cx="123480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097160"/>
                    <a:ext cx="12348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"/>
          <p:cNvGrpSpPr/>
          <p:nvPr/>
        </p:nvGrpSpPr>
        <p:grpSpPr>
          <a:xfrm>
            <a:off x="5540400" y="2328840"/>
            <a:ext cx="3137040" cy="3124080"/>
            <a:chOff x="5540400" y="2328840"/>
            <a:chExt cx="3137040" cy="3124080"/>
          </a:xfrm>
        </p:grpSpPr>
        <p:sp>
          <p:nvSpPr>
            <p:cNvPr id="402" name=""/>
            <p:cNvSpPr/>
            <p:nvPr/>
          </p:nvSpPr>
          <p:spPr>
            <a:xfrm>
              <a:off x="6246720" y="232884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42240" y="2328840"/>
              <a:ext cx="345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35960" y="232884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29680" y="232884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53000" y="2328840"/>
              <a:ext cx="3477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53000" y="232884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53000" y="267624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53000" y="302220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53000" y="336996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53000" y="371772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53000" y="406368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53000" y="441144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53000" y="4759200"/>
              <a:ext cx="3124440" cy="34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53000" y="5105160"/>
              <a:ext cx="3124440" cy="34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46720" y="2328840"/>
              <a:ext cx="0" cy="3124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40400" y="5452920"/>
              <a:ext cx="3124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170760" y="22860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8" idx="2"/>
          </p:cNvCxnSpPr>
          <p:nvPr/>
        </p:nvCxnSpPr>
        <p:spPr>
          <a:xfrm flipV="1">
            <a:off x="3597120" y="2361960"/>
            <a:ext cx="2555280" cy="2018160"/>
          </a:xfrm>
          <a:prstGeom prst="curvedConnector5">
            <a:avLst>
              <a:gd name="adj1" fmla="val 50331"/>
              <a:gd name="adj2" fmla="val 49991"/>
              <a:gd name="adj3" fmla="val 50331"/>
            </a:avLst>
          </a:prstGeom>
          <a:ln w="38160">
            <a:solidFill>
              <a:srgbClr val="9900ff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6518160" y="294624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51680" y="2117880"/>
            <a:ext cx="1628640" cy="3325680"/>
          </a:xfrm>
          <a:custGeom>
            <a:avLst/>
            <a:gdLst/>
            <a:ahLst/>
            <a:rect l="l" t="t" r="r" b="b"/>
            <a:pathLst>
              <a:path w="1026" h="2095">
                <a:moveTo>
                  <a:pt x="0" y="0"/>
                </a:moveTo>
                <a:lnTo>
                  <a:pt x="1026" y="2095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533520" y="2579760"/>
          <a:ext cx="10112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257976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241800" y="2579760"/>
          <a:ext cx="10112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1800" y="257976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858960" y="3178080"/>
            <a:ext cx="388620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362320" y="3254400"/>
          <a:ext cx="44136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3254400"/>
                    <a:ext cx="44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697120" y="3178080"/>
          <a:ext cx="220356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97120" y="3178080"/>
                    <a:ext cx="22035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2494080" y="2579760"/>
          <a:ext cx="74772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94080" y="257976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4165560" y="2557440"/>
          <a:ext cx="74772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65560" y="255744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4876920" y="2438280"/>
            <a:ext cx="1600200" cy="724320"/>
            <a:chOff x="4876920" y="2438280"/>
            <a:chExt cx="1600200" cy="724320"/>
          </a:xfrm>
        </p:grpSpPr>
        <p:sp>
          <p:nvSpPr>
            <p:cNvPr id="436" name=""/>
            <p:cNvSpPr/>
            <p:nvPr/>
          </p:nvSpPr>
          <p:spPr>
            <a:xfrm>
              <a:off x="6248520" y="2438280"/>
              <a:ext cx="0" cy="606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76920" y="262692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Down 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796000" y="2579760"/>
            <a:ext cx="1492200" cy="447480"/>
            <a:chOff x="5796000" y="2579760"/>
            <a:chExt cx="1492200" cy="447480"/>
          </a:xfrm>
        </p:grpSpPr>
        <p:sp>
          <p:nvSpPr>
            <p:cNvPr id="439" name=""/>
            <p:cNvSpPr/>
            <p:nvPr/>
          </p:nvSpPr>
          <p:spPr>
            <a:xfrm>
              <a:off x="6246720" y="3027240"/>
              <a:ext cx="3474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96000" y="2579760"/>
              <a:ext cx="1492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Right 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slotwn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04T17:15:10Z</dcterms:modified>
  <cp:revision>326</cp:revision>
  <dc:subject/>
  <dc:title>No Slide Title</dc:title>
</cp:coreProperties>
</file>